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0B6828-E910-4F0E-A227-47824B8011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D799C4-284A-4ED6-9DB6-CAA01E3193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8D6694-B7E9-4C50-A4A4-1B79C17BF8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43F625-DCD3-46D6-AAC2-FAD620B4B4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81883-FBAE-4C2D-98C6-A4B7ABB17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5F41D-2A10-4A59-BDE9-3E9D3922A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A437D-9590-4C61-84D1-220FD726C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8F49B-6F8B-476F-AB87-9C2B0FB5D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03488-FD9B-41C0-AB3C-2610CFEDA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78B3B-193C-4F08-AC9B-BEB642EA9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BFAEE-79FB-405A-AF34-9493945AA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2A431E-92F3-4377-B979-CFB3243986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6023C-B66D-4FD7-8D4F-8189042D1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D015B-9F88-4352-A17E-C306E5EE2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8903B-3D27-4545-823F-A76A33F46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304B82-918E-411F-BAA5-C865DDB001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03A8DF-76FD-438F-954A-E446B4EFF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7B43DA-DD9E-4BBE-94E5-CD03B34212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5AFE7E-D0F6-4391-8600-E5FC30B41A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7BDEE2-3644-48F0-81D1-257FDA4C7A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E0906E-A243-45FD-8DC4-403303C1DB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79A61C-4374-49B1-B419-F60D1E2A12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1C49F0-F2D2-402B-9DB6-5C9B4752C6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AD4ADD-3031-4AEA-8CB9-B93B9CFEFC3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CA8BA-52D1-4FE9-A4CC-E28FBF24B88C}"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B87C-A79D-4967-956A-83D22DF3D61F}"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0000" y="2373120"/>
            <a:ext cx="601956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ffffff"/>
                </a:solidFill>
                <a:latin typeface="Arial"/>
              </a:rPr>
              <a:t>Διαχείριση της σχολικής τάξης</a:t>
            </a:r>
            <a:endParaRPr b="0" lang="en-US" sz="4200" spc="-1" strike="noStrike">
              <a:solidFill>
                <a:srgbClr val="000000"/>
              </a:solidFill>
              <a:latin typeface="Arial"/>
            </a:endParaRPr>
          </a:p>
        </p:txBody>
      </p:sp>
      <p:sp>
        <p:nvSpPr>
          <p:cNvPr id="107" name="PlaceHolder 2"/>
          <p:cNvSpPr>
            <a:spLocks noGrp="1"/>
          </p:cNvSpPr>
          <p:nvPr>
            <p:ph type="subTitle"/>
          </p:nvPr>
        </p:nvSpPr>
        <p:spPr>
          <a:xfrm>
            <a:off x="2627280" y="4581360"/>
            <a:ext cx="6019920" cy="1727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Κανόνες και καθορισμός σχέσεων</a:t>
            </a:r>
            <a:endParaRPr b="0" lang="en-US" sz="32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 Λαζαρίδο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907920"/>
            <a:ext cx="8229600" cy="53294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0000"/>
                </a:solidFill>
                <a:latin typeface="Arial"/>
              </a:rPr>
              <a:t>Ειδικοί κανόνες</a:t>
            </a:r>
            <a:r>
              <a:rPr b="1" i="1" lang="en-US" sz="2400" spc="-1" strike="noStrike">
                <a:solidFill>
                  <a:srgbClr val="000000"/>
                </a:solidFill>
                <a:latin typeface="Arial"/>
              </a:rPr>
              <a:t>:</a:t>
            </a:r>
            <a:r>
              <a:rPr b="0" lang="en-US" sz="2400" spc="-1" strike="noStrike">
                <a:solidFill>
                  <a:srgbClr val="000000"/>
                </a:solidFill>
                <a:latin typeface="Arial"/>
              </a:rPr>
              <a:t> </a:t>
            </a:r>
            <a:r>
              <a:rPr b="0" lang="el-GR" sz="2400" spc="-1" strike="noStrike">
                <a:solidFill>
                  <a:srgbClr val="000000"/>
                </a:solidFill>
                <a:latin typeface="Arial"/>
              </a:rPr>
              <a:t>π.χ. Πρέπει να σηκώνετε το χέρι σας όταν θέλετε να μιλήσετε.</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Arial"/>
              </a:rPr>
              <a:t>Για ατομική εργασία και δραστηριότητες που κατευθύνονται από το δάσκαλο.</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φισταμένη προσοχή κατά τη διάρκεια των παρουσιάσεων.</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μμετοχή.</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μιλία με συμμαθητέ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αζήτηση βοήθεια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μπεριφορά όταν ολοκληρώνεται η ατομική μας εργασία.</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549360"/>
            <a:ext cx="8229600" cy="5975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Arial"/>
              </a:rPr>
              <a:t>Για την εισαγωγή των μαθητών στην τάξη και την αποχώρησή του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 ξεκίνημα της ημέρα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άδεια για αποχώρηση από την τάξη.</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πιστροφή στην τάξη.</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οχώρηση στο τέλος της ημέρας.</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Arial"/>
              </a:rPr>
              <a:t>Για τις ομαδικές εργασίε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ετοιμασία της τάξη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ινητικότητα των μαθητών.</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αμενόμενη συμπεριφορά των μαθητών κατά τη διάρκεια της εργασία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αμενόμενη συμπεριφορά των μαθητών εκτός ομάδα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λικά για εργασία.</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196640"/>
            <a:ext cx="8229600" cy="4670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000000"/>
                </a:solidFill>
                <a:latin typeface="Arial"/>
              </a:rPr>
              <a:t>Κανόνας με εξήγηση</a:t>
            </a:r>
            <a:r>
              <a:rPr b="0" lang="en-US" sz="3200" spc="-1" strike="noStrike">
                <a:solidFill>
                  <a:srgbClr val="000000"/>
                </a:solidFill>
                <a:latin typeface="Arial"/>
              </a:rPr>
              <a:t>: </a:t>
            </a:r>
            <a:r>
              <a:rPr b="0" lang="el-GR" sz="3200" spc="-1" strike="noStrike">
                <a:solidFill>
                  <a:srgbClr val="000000"/>
                </a:solidFill>
                <a:latin typeface="Arial"/>
              </a:rPr>
              <a:t>« Δεν πρέπει να σπρώχνετε  ο ένας τον άλλον, γιατί αν κάποιος πέσει μπορεί να χτυπήσει άσχημα.»</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000000"/>
                </a:solidFill>
                <a:latin typeface="Arial"/>
              </a:rPr>
              <a:t>Γενική ερώτηση</a:t>
            </a:r>
            <a:r>
              <a:rPr b="1" i="1" lang="en-US" sz="3200" spc="-1" strike="noStrike">
                <a:solidFill>
                  <a:srgbClr val="000000"/>
                </a:solidFill>
                <a:latin typeface="Arial"/>
              </a:rPr>
              <a:t>:</a:t>
            </a:r>
            <a:r>
              <a:rPr b="0" lang="en-US" sz="3200" spc="-1" strike="noStrike">
                <a:solidFill>
                  <a:srgbClr val="000000"/>
                </a:solidFill>
                <a:latin typeface="Arial"/>
              </a:rPr>
              <a:t> </a:t>
            </a:r>
            <a:r>
              <a:rPr b="0" lang="el-GR" sz="3200" spc="-1" strike="noStrike">
                <a:solidFill>
                  <a:srgbClr val="000000"/>
                </a:solidFill>
                <a:latin typeface="Arial"/>
              </a:rPr>
              <a:t>«Τι μπορούμε να κάνουμε για να πάρουμε μεγαλύτερους βαθμούς στο επόμενο διαγώνισμα;»</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549360"/>
            <a:ext cx="8291520" cy="5975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Arial"/>
              </a:rPr>
              <a:t>Ειδική ερώτηση</a:t>
            </a:r>
            <a:r>
              <a:rPr b="1" i="1" lang="en-US" sz="2800" spc="-1" strike="noStrike">
                <a:solidFill>
                  <a:srgbClr val="000000"/>
                </a:solidFill>
                <a:latin typeface="Arial"/>
              </a:rPr>
              <a:t>:</a:t>
            </a:r>
            <a:r>
              <a:rPr b="0" lang="en-US" sz="2800" spc="-1" strike="noStrike">
                <a:solidFill>
                  <a:srgbClr val="000000"/>
                </a:solidFill>
                <a:latin typeface="Arial"/>
              </a:rPr>
              <a:t> </a:t>
            </a:r>
            <a:r>
              <a:rPr b="0" lang="el-GR" sz="2800" spc="-1" strike="noStrike">
                <a:solidFill>
                  <a:srgbClr val="000000"/>
                </a:solidFill>
                <a:latin typeface="Arial"/>
              </a:rPr>
              <a:t>«τι θα συνέβαινε αν το κάθε παιδί καθόταν κάθε μέρα και σε διαφορετική θέση;»</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Arial"/>
              </a:rPr>
              <a:t>Περιστασιακός κανόνας</a:t>
            </a:r>
            <a:r>
              <a:rPr b="1" i="1" lang="en-US" sz="2800" spc="-1" strike="noStrike">
                <a:solidFill>
                  <a:srgbClr val="000000"/>
                </a:solidFill>
                <a:latin typeface="Arial"/>
              </a:rPr>
              <a:t>:</a:t>
            </a:r>
            <a:r>
              <a:rPr b="0" lang="en-US" sz="2800" spc="-1" strike="noStrike">
                <a:solidFill>
                  <a:srgbClr val="000000"/>
                </a:solidFill>
                <a:latin typeface="Arial"/>
              </a:rPr>
              <a:t> </a:t>
            </a:r>
            <a:r>
              <a:rPr b="0" lang="el-GR" sz="2800" spc="-1" strike="noStrike">
                <a:solidFill>
                  <a:srgbClr val="000000"/>
                </a:solidFill>
                <a:latin typeface="Arial"/>
              </a:rPr>
              <a:t>«Ακόμα δεν άρχισες να γράφεις;’ ‘Δεν καταλαβαίνω τι πρέπει να κάνω.’ ‘Αν δεν καταλαβαίνεις κάτι, θα πρέπει να σηκώσεις το χέρι σου και όχι να κάθεσαι και να περιμένεις να έρθω εγώ να σου εξηγήσω.»</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Arial"/>
              </a:rPr>
              <a:t>Διαπραγμάτευση</a:t>
            </a:r>
            <a:r>
              <a:rPr b="1" i="1" lang="en-US" sz="2800" spc="-1" strike="noStrike">
                <a:solidFill>
                  <a:srgbClr val="000000"/>
                </a:solidFill>
                <a:latin typeface="Arial"/>
              </a:rPr>
              <a:t>:</a:t>
            </a:r>
            <a:r>
              <a:rPr b="0" lang="en-US" sz="2800" spc="-1" strike="noStrike">
                <a:solidFill>
                  <a:srgbClr val="000000"/>
                </a:solidFill>
                <a:latin typeface="Arial"/>
              </a:rPr>
              <a:t> </a:t>
            </a:r>
            <a:r>
              <a:rPr b="0" lang="el-GR" sz="2800" spc="-1" strike="noStrike">
                <a:solidFill>
                  <a:srgbClr val="000000"/>
                </a:solidFill>
                <a:latin typeface="Arial"/>
              </a:rPr>
              <a:t>«Σας επέτρεψα να μιλάτε μεταξύ σας όσο κάνετε την εργασίας σας, αλλά κάνετε πλέον υπερβολικό θόρυβο. Ας συζητήσουμε λοιπόν για λίγο τι μπορούμε να κάνουμε για ν’ αλλάξουμε αυτήν την κατάσταση.»</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000000"/>
                </a:solidFill>
                <a:latin typeface="Arial"/>
              </a:rPr>
              <a:t>Αυτοέλεγχος</a:t>
            </a:r>
            <a:r>
              <a:rPr b="1" i="1" lang="en-US" sz="3200" spc="-1" strike="noStrike">
                <a:solidFill>
                  <a:srgbClr val="000000"/>
                </a:solidFill>
                <a:latin typeface="Arial"/>
              </a:rPr>
              <a:t>:</a:t>
            </a:r>
            <a:r>
              <a:rPr b="0" lang="el-GR" sz="3200" spc="-1" strike="noStrike">
                <a:solidFill>
                  <a:srgbClr val="000000"/>
                </a:solidFill>
                <a:latin typeface="Arial"/>
              </a:rPr>
              <a:t> «Θα πρέπει να παίρνετε οι ίδιοι όλο και περισσότερες αποφάσεις καθώς μεγαλώνετε. Για να δούμε λοιπόν πόσο καλά μπορείτε να ελέγχετε την πορεία της εργασίας σας χωρίς να έχετε εμένα συνεχώς πάνω από το κεφάλι σα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Ά</a:t>
            </a:r>
            <a:r>
              <a:rPr b="0" lang="el-GR" sz="4400" spc="-1" strike="noStrike">
                <a:solidFill>
                  <a:srgbClr val="000000"/>
                </a:solidFill>
                <a:latin typeface="Arial"/>
              </a:rPr>
              <a:t>σκηση</a:t>
            </a:r>
            <a:endParaRPr b="0" lang="en-US" sz="4400" spc="-1" strike="noStrike">
              <a:solidFill>
                <a:srgbClr val="000000"/>
              </a:solidFill>
              <a:latin typeface="Arial"/>
            </a:endParaRPr>
          </a:p>
        </p:txBody>
      </p:sp>
      <p:sp>
        <p:nvSpPr>
          <p:cNvPr id="129" name=""/>
          <p:cNvSpPr txBox="1"/>
          <p:nvPr/>
        </p:nvSpPr>
        <p:spPr>
          <a:xfrm>
            <a:off x="457200" y="1699920"/>
            <a:ext cx="8229600" cy="41670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ea typeface="Times New Roman"/>
              </a:rPr>
              <a:t>Ποιες είναι οι </a:t>
            </a:r>
            <a:r>
              <a:rPr b="0" lang="en-CA" sz="3200" spc="-1" strike="noStrike">
                <a:solidFill>
                  <a:srgbClr val="000000"/>
                </a:solidFill>
                <a:latin typeface="Arial"/>
                <a:ea typeface="Times New Roman"/>
              </a:rPr>
              <a:t>“</a:t>
            </a:r>
            <a:r>
              <a:rPr b="0" i="1" lang="el-GR" sz="3200" spc="-1" strike="noStrike">
                <a:solidFill>
                  <a:srgbClr val="000000"/>
                </a:solidFill>
                <a:latin typeface="Arial"/>
                <a:ea typeface="Times New Roman"/>
              </a:rPr>
              <a:t>κόκκινες γραμμές σας</a:t>
            </a:r>
            <a:r>
              <a:rPr b="0" lang="en-CA" sz="3200" spc="-1" strike="noStrike">
                <a:solidFill>
                  <a:srgbClr val="000000"/>
                </a:solidFill>
                <a:latin typeface="Arial"/>
                <a:ea typeface="Times New Roman"/>
              </a:rPr>
              <a:t>”</a:t>
            </a:r>
            <a:r>
              <a:rPr b="0" lang="el-GR" sz="3200" spc="-1" strike="noStrike">
                <a:solidFill>
                  <a:srgbClr val="000000"/>
                </a:solidFill>
                <a:latin typeface="Arial"/>
                <a:ea typeface="Times New Roman"/>
              </a:rPr>
              <a:t> για τη συμπεριφορά των μαθητών μέσα στην τάξη;</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Τι επιτρέπετε;</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Τι δεν επιτρέπετε;</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Τι αγνοείτε;</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Τι επαινείτ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62064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Κανόνες και διαπροσωπικές σχέσεις</a:t>
            </a:r>
            <a:endParaRPr b="0" lang="en-US" sz="3200" spc="-1" strike="noStrike">
              <a:solidFill>
                <a:srgbClr val="000000"/>
              </a:solidFill>
              <a:latin typeface="Arial"/>
            </a:endParaRPr>
          </a:p>
        </p:txBody>
      </p:sp>
      <p:sp>
        <p:nvSpPr>
          <p:cNvPr id="131" name="PlaceHolder 2"/>
          <p:cNvSpPr>
            <a:spLocks noGrp="1"/>
          </p:cNvSpPr>
          <p:nvPr>
            <p:ph/>
          </p:nvPr>
        </p:nvSpPr>
        <p:spPr>
          <a:xfrm>
            <a:off x="457200" y="1844640"/>
            <a:ext cx="8229600" cy="40226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θέσπιση κανόνων συνδέεται στενά με τις σχέσεις του εκπαιδευτικού με τους μαθητές, αλλά και των μαθητών μεταξύ τους.</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a:t>
            </a:r>
            <a:r>
              <a:rPr b="0" lang="el-GR" sz="3200" spc="-1" strike="noStrike">
                <a:solidFill>
                  <a:srgbClr val="000000"/>
                </a:solidFill>
                <a:latin typeface="Arial"/>
              </a:rPr>
              <a:t>Όταν οι ίδιοι οι εκπαιδευτικοί δεν είναι συνεπείς, τότε προκαλείται σύγχυση στους μαθητέ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9640" y="333000"/>
            <a:ext cx="8229600" cy="10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Arial"/>
              </a:rPr>
              <a:t>Έπαινοι και ποινές</a:t>
            </a:r>
            <a:endParaRPr b="0" lang="en-US" sz="3600" spc="-1" strike="noStrike">
              <a:solidFill>
                <a:srgbClr val="000000"/>
              </a:solidFill>
              <a:latin typeface="Arial"/>
            </a:endParaRPr>
          </a:p>
        </p:txBody>
      </p:sp>
      <p:sp>
        <p:nvSpPr>
          <p:cNvPr id="133" name="PlaceHolder 2"/>
          <p:cNvSpPr>
            <a:spLocks noGrp="1"/>
          </p:cNvSpPr>
          <p:nvPr>
            <p:ph/>
          </p:nvPr>
        </p:nvSpPr>
        <p:spPr>
          <a:xfrm>
            <a:off x="457200" y="1413000"/>
            <a:ext cx="8229600" cy="47527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ποινές πρέπει να είναι</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Ήπιες</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α μην επιβάλλονται με κακή προαίρεση</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α είναι μέσα στα πλαίσια συμμόρφωσης με τους κανόνες του σχολείου.</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α είναι παρόμοιες με αυτές που θα επέβαλλαν οι ίδιοι οι γονείς ή που θα περίμενε να υποστεί ένα παιδί που έκανε κάτι κακό.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980640"/>
            <a:ext cx="8229600" cy="4886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ι έπαινοι μπορεί να είναι</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0000"/>
                </a:solidFill>
                <a:latin typeface="Arial"/>
              </a:rPr>
              <a:t>Εξωγενείς</a:t>
            </a:r>
            <a:r>
              <a:rPr b="0" lang="el-GR" sz="3200" spc="-1" strike="noStrike">
                <a:solidFill>
                  <a:srgbClr val="000000"/>
                </a:solidFill>
                <a:latin typeface="Arial"/>
              </a:rPr>
              <a:t> (βραβεία, προνόμια, οτιδήποτε προσφέρεται)</a:t>
            </a:r>
            <a:endParaRPr b="0" lang="en-US" sz="3200" spc="-1" strike="noStrike">
              <a:solidFill>
                <a:srgbClr val="000000"/>
              </a:solidFill>
              <a:latin typeface="Arial"/>
            </a:endParaRPr>
          </a:p>
          <a:p>
            <a:pPr lvl="1" marL="743040" indent="-285840">
              <a:lnSpc>
                <a:spcPct val="9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0000"/>
                </a:solidFill>
                <a:latin typeface="Arial"/>
              </a:rPr>
              <a:t>Ενδογενείς</a:t>
            </a:r>
            <a:r>
              <a:rPr b="0" lang="el-GR" sz="3200" spc="-1" strike="noStrike">
                <a:solidFill>
                  <a:srgbClr val="000000"/>
                </a:solidFill>
                <a:latin typeface="Arial"/>
              </a:rPr>
              <a:t> (η ικανοποίηση της περιέργειας, η περηφάνεια για μια καλή εργασία, οτιδήποτε προέρχεται από το ίδιο το άτομο)</a:t>
            </a:r>
            <a:endParaRPr b="0" lang="en-US" sz="32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i="1" lang="el-GR" sz="3200" spc="-1" strike="noStrike">
                <a:solidFill>
                  <a:srgbClr val="000000"/>
                </a:solidFill>
                <a:latin typeface="Arial"/>
              </a:rPr>
              <a:t>Πώς πρέπει να διαπραγματεύεται ο εκπαιδευτικός το θέμα των επαίνων και των ποινώ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69192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Arial"/>
              </a:rPr>
              <a:t>Δραστηριότητα παρατήρησης</a:t>
            </a:r>
            <a:endParaRPr b="0" lang="en-US" sz="3600" spc="-1" strike="noStrike">
              <a:solidFill>
                <a:srgbClr val="000000"/>
              </a:solidFill>
              <a:latin typeface="Arial"/>
            </a:endParaRPr>
          </a:p>
        </p:txBody>
      </p:sp>
      <p:sp>
        <p:nvSpPr>
          <p:cNvPr id="136" name="PlaceHolder 2"/>
          <p:cNvSpPr>
            <a:spLocks noGrp="1"/>
          </p:cNvSpPr>
          <p:nvPr>
            <p:ph/>
          </p:nvPr>
        </p:nvSpPr>
        <p:spPr>
          <a:xfrm>
            <a:off x="468000" y="1628280"/>
            <a:ext cx="8280360" cy="45370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αρατηρήστε πώς και πότε δίνονται οι έπαινοι και επιβάλλονται οι τιμωρίες στο σχολείο σας. Να λάβετε υπόψη σας και τους υπολανθάνοντες επαίνους ή ποινές (κάποιο χαμόγελο, μια παρατήρηση, την εφαρμογή μιας ιδέας, κάποιο αρνητικό σχόλιο, την τιμωρία, την αδιαφορία, την αναγνώριση της προσπάθειας ενός παιδιού, την αφαίρεση προνομίων κλπ).</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726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Δραστηριότητα</a:t>
            </a:r>
            <a:endParaRPr b="0" lang="en-US" sz="3600" spc="-1" strike="noStrike">
              <a:solidFill>
                <a:srgbClr val="000000"/>
              </a:solidFill>
              <a:latin typeface="Arial"/>
            </a:endParaRPr>
          </a:p>
        </p:txBody>
      </p:sp>
      <p:sp>
        <p:nvSpPr>
          <p:cNvPr id="109" name="PlaceHolder 2"/>
          <p:cNvSpPr>
            <a:spLocks noGrp="1"/>
          </p:cNvSpPr>
          <p:nvPr>
            <p:ph/>
          </p:nvPr>
        </p:nvSpPr>
        <p:spPr>
          <a:xfrm>
            <a:off x="457200" y="2130480"/>
            <a:ext cx="8229600" cy="37368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Γράψτε 4 κανόνες που θεωρείτε τους πιο σημαντικούς για την τάξη σα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Γράψτε 4 κανόνες που θεωρείτε λιγότερο σημαντικούς για την τάξη σα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33300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Είδη κανόνων</a:t>
            </a:r>
            <a:endParaRPr b="0" lang="en-US" sz="3600" spc="-1" strike="noStrike">
              <a:solidFill>
                <a:srgbClr val="000000"/>
              </a:solidFill>
              <a:latin typeface="Arial"/>
            </a:endParaRPr>
          </a:p>
        </p:txBody>
      </p:sp>
      <p:sp>
        <p:nvSpPr>
          <p:cNvPr id="111" name="PlaceHolder 2"/>
          <p:cNvSpPr>
            <a:spLocks noGrp="1"/>
          </p:cNvSpPr>
          <p:nvPr>
            <p:ph/>
          </p:nvPr>
        </p:nvSpPr>
        <p:spPr>
          <a:xfrm>
            <a:off x="395280" y="1557360"/>
            <a:ext cx="8353440" cy="4680000"/>
          </a:xfrm>
          <a:prstGeom prst="rect">
            <a:avLst/>
          </a:prstGeom>
          <a:noFill/>
          <a:ln w="0">
            <a:noFill/>
          </a:ln>
        </p:spPr>
        <p:txBody>
          <a:bodyPr anchor="t">
            <a:normAutofit/>
          </a:bodyPr>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f0000"/>
                </a:solidFill>
                <a:latin typeface="Arial"/>
              </a:rPr>
              <a:t>Κανόνες που επιβάλλονται από το νόμο </a:t>
            </a:r>
            <a:r>
              <a:rPr b="0" lang="el-GR" sz="2800" spc="-1" strike="noStrike">
                <a:solidFill>
                  <a:srgbClr val="000000"/>
                </a:solidFill>
                <a:latin typeface="Arial"/>
              </a:rPr>
              <a:t>(π.χ. δικαιώματα των γονέων, χρόνος υποχρεωτικής εκπαίδευσης, διαδικασία επιβολής ποινών)</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f0000"/>
                </a:solidFill>
                <a:latin typeface="Arial"/>
              </a:rPr>
              <a:t>Κανόνες του σχολείου </a:t>
            </a:r>
            <a:r>
              <a:rPr b="0" lang="el-GR" sz="2800" spc="-1" strike="noStrike">
                <a:solidFill>
                  <a:srgbClr val="000000"/>
                </a:solidFill>
                <a:latin typeface="Arial"/>
              </a:rPr>
              <a:t>(π.χ. συμπεριφορά των μαθητών στο προαύλιο, η χρήση σχολικών εγκαταστάσεων)</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f0000"/>
                </a:solidFill>
                <a:latin typeface="Arial"/>
              </a:rPr>
              <a:t>Κανόνες που θέτουν οι εκπαιδευτικοί </a:t>
            </a:r>
            <a:r>
              <a:rPr b="0" lang="el-GR" sz="2800" spc="-1" strike="noStrike">
                <a:solidFill>
                  <a:srgbClr val="000000"/>
                </a:solidFill>
                <a:latin typeface="Arial"/>
              </a:rPr>
              <a:t>(π.χ. η συμπεριφορά των μαθητών μέσα στην τάξη, η αντιμετώπιση παραβατικών συμπεριφορών, η πορεία του μαθήματος)</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40428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αραδείγματα κανόνων</a:t>
            </a:r>
            <a:endParaRPr b="0" lang="en-US" sz="3200" spc="-1" strike="noStrike">
              <a:solidFill>
                <a:srgbClr val="000000"/>
              </a:solidFill>
              <a:latin typeface="Arial"/>
            </a:endParaRPr>
          </a:p>
        </p:txBody>
      </p:sp>
      <p:sp>
        <p:nvSpPr>
          <p:cNvPr id="113" name="PlaceHolder 2"/>
          <p:cNvSpPr>
            <a:spLocks noGrp="1"/>
          </p:cNvSpPr>
          <p:nvPr>
            <p:ph/>
          </p:nvPr>
        </p:nvSpPr>
        <p:spPr>
          <a:xfrm>
            <a:off x="468360" y="1413000"/>
            <a:ext cx="822960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κπαιδευτικός Α</a:t>
            </a:r>
            <a:r>
              <a:rPr b="0" lang="en-US" sz="2400" spc="-1" strike="noStrike">
                <a:solidFill>
                  <a:srgbClr val="000000"/>
                </a:solidFill>
                <a:latin typeface="Arial"/>
              </a:rPr>
              <a:t>: </a:t>
            </a:r>
            <a:r>
              <a:rPr b="1" i="1" lang="el-GR" sz="2400" spc="-1" strike="noStrike">
                <a:solidFill>
                  <a:srgbClr val="000000"/>
                </a:solidFill>
                <a:latin typeface="Arial"/>
              </a:rPr>
              <a:t>«Να θυμάστε ότι όταν θέλετε να πείτε κάτι μέσα στην τάξη, θα πρέπει να σηκώνετε το χέρι σας. Δε θέλω να ακούσω κανέναν να μιλάει χωρίς προηγουμένως να έχει σηκώσει το χέρι του. Όταν φωνάζετε όλοι μαζί, δεν ακούγεται τελικά κανένας.»</a:t>
            </a:r>
            <a:r>
              <a:rPr b="0" lang="el-GR" sz="2400" spc="-1" strike="noStrike">
                <a:solidFill>
                  <a:srgbClr val="000000"/>
                </a:solidFill>
                <a:latin typeface="Arial"/>
              </a:rPr>
              <a:t> (στην αρχή της σχολικής χρονιάς)</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κπαιδευτικός Β</a:t>
            </a:r>
            <a:r>
              <a:rPr b="0" lang="en-US" sz="2400" spc="-1" strike="noStrike">
                <a:solidFill>
                  <a:srgbClr val="000000"/>
                </a:solidFill>
                <a:latin typeface="Arial"/>
              </a:rPr>
              <a:t>: </a:t>
            </a:r>
            <a:r>
              <a:rPr b="1" i="1" lang="el-GR" sz="2400" spc="-1" strike="noStrike">
                <a:solidFill>
                  <a:srgbClr val="000000"/>
                </a:solidFill>
                <a:latin typeface="Arial"/>
              </a:rPr>
              <a:t>«Τι κάνουμε πάντα όταν θέλουμε να πάρουμε το λόγο;»</a:t>
            </a:r>
            <a:r>
              <a:rPr b="0" i="1" lang="el-GR" sz="2400" spc="-1" strike="noStrike">
                <a:solidFill>
                  <a:srgbClr val="000000"/>
                </a:solidFill>
                <a:latin typeface="Arial"/>
              </a:rPr>
              <a:t> </a:t>
            </a:r>
            <a:r>
              <a:rPr b="0" lang="el-GR" sz="2400" spc="-1" strike="noStrike">
                <a:solidFill>
                  <a:srgbClr val="000000"/>
                </a:solidFill>
                <a:latin typeface="Arial"/>
              </a:rPr>
              <a:t>(την πρώτη μέρα της σχολικής χρονιάς)</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κπαιδευτικός Γ</a:t>
            </a:r>
            <a:r>
              <a:rPr b="0" lang="en-US" sz="2400" spc="-1" strike="noStrike">
                <a:solidFill>
                  <a:srgbClr val="000000"/>
                </a:solidFill>
                <a:latin typeface="Arial"/>
              </a:rPr>
              <a:t>: </a:t>
            </a:r>
            <a:r>
              <a:rPr b="1" i="1" lang="el-GR" sz="2400" spc="-1" strike="noStrike">
                <a:solidFill>
                  <a:srgbClr val="000000"/>
                </a:solidFill>
                <a:latin typeface="Arial"/>
              </a:rPr>
              <a:t>«Βλέπω ότι φωνάζετε συνέχεια ‘Κυρία, κυρία’ χωρίς να σηκώνετε χέρι. Για να δω τα χεράκια σηκωμένα και μετά θα αποφασίσω ποιος θα μιλήσει.»</a:t>
            </a:r>
            <a:r>
              <a:rPr b="0" lang="el-GR" sz="2400" spc="-1" strike="noStrike">
                <a:solidFill>
                  <a:srgbClr val="000000"/>
                </a:solidFill>
                <a:latin typeface="Arial"/>
              </a:rPr>
              <a:t> (δεύτερη μέρα μαθημάτων)</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86960"/>
            <a:ext cx="8229600" cy="104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Κατηγοριοποίηση κανόνων</a:t>
            </a:r>
            <a:endParaRPr b="0" lang="en-US" sz="3600" spc="-1" strike="noStrike">
              <a:solidFill>
                <a:srgbClr val="000000"/>
              </a:solidFill>
              <a:latin typeface="Arial"/>
            </a:endParaRPr>
          </a:p>
        </p:txBody>
      </p:sp>
      <p:sp>
        <p:nvSpPr>
          <p:cNvPr id="115" name="PlaceHolder 2"/>
          <p:cNvSpPr>
            <a:spLocks noGrp="1"/>
          </p:cNvSpPr>
          <p:nvPr>
            <p:ph/>
          </p:nvPr>
        </p:nvSpPr>
        <p:spPr>
          <a:xfrm>
            <a:off x="826560" y="2314080"/>
            <a:ext cx="7859880" cy="3552840"/>
          </a:xfrm>
          <a:prstGeom prst="rect">
            <a:avLst/>
          </a:prstGeom>
          <a:noFill/>
          <a:ln w="0">
            <a:noFill/>
          </a:ln>
        </p:spPr>
        <p:txBody>
          <a:bodyPr anchor="t">
            <a:normAutofit/>
          </a:bodyPr>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ίνηση</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μιλία</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ργασία μέσα στην τάξη</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ώρος</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σφάλεια</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λικά και μέσα διδασκαλίας</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οινωνική συμπεριφορά</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86960"/>
            <a:ext cx="8229600" cy="104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Δραστηριότητα</a:t>
            </a:r>
            <a:endParaRPr b="0" lang="en-US" sz="36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ε βάση τις προηγούμενες κατηγορίες κανόνων προσπάθησε να εντάξεις τους κανόνες που έγραψες προηγουμένως σε κάποιες από τις κατηγορίες αυτές.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ε την ομάδα, συντάξετε μια λίστα με τους κοινούς κανόνες και τις κατηγορίες στις οποίες ανήκουν. Κατόπιν επιλέξτε 3 κανόνες που θεωρείτε τους πιο σημαντικούς και συζητήστε πώς α) θα τους εφαρμόζατε στην τάξη σας και β) τι θα κάνατε όταν οι μαθητές τους παραβίαζα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33300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Αυτοέλεγχος και διαπραγμάτευση</a:t>
            </a:r>
            <a:endParaRPr b="0" lang="en-US" sz="3600" spc="-1" strike="noStrike">
              <a:solidFill>
                <a:srgbClr val="000000"/>
              </a:solidFill>
              <a:latin typeface="Arial"/>
            </a:endParaRPr>
          </a:p>
        </p:txBody>
      </p:sp>
      <p:sp>
        <p:nvSpPr>
          <p:cNvPr id="119"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ρευνες έχουν δείξει ότι τα προβλήματα διαχείρισης της τάξης μειώνονται αν τα παιδιά καταλάβουν γιατί πρέπει να εφαρμόζονται κάποιοι κανόνες ή αν ενημερωθούν για το είδος της συμπεριφοράς που είναι αποδεκτό.</a:t>
            </a: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εκπαιδευτικός οφείλει να εξηγήσει στα παιδιά ποιους κανόνες θεωρεί ο ίδιος απαραίτητους, αλλά να δίνει και στα παιδιά τη δυνατότητα να προτείνουν κάποιους καινούργιους ή να κάνουν τροποποιήσεις των ήδη υπαρχόντων.</a:t>
            </a:r>
            <a:r>
              <a:rPr b="0" lang="el-G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ι είναι τελικά διαπραγματεύσιμο;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α παιδιά είναι απαραίτητο να συνειδητοποιήσουν την ανάγκη ύπαρξης κανόνων.</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α παιδιά πρέπει να έρθουν αντιμέτωπα με θέματα όπως η αυτοπειθαρχία, ο αυτοέλεγχος, ο αλληλοσεβασμός.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ην τελική ευθύνη για τους κανόνες την έχουν οι εκπαιδευτικο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6840"/>
            <a:ext cx="8229600" cy="933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Τρόποι καθιέρωσης κανόνων</a:t>
            </a:r>
            <a:endParaRPr b="0" lang="en-US" sz="3600" spc="-1" strike="noStrike">
              <a:solidFill>
                <a:srgbClr val="000000"/>
              </a:solidFill>
              <a:latin typeface="Arial"/>
            </a:endParaRPr>
          </a:p>
        </p:txBody>
      </p:sp>
      <p:sp>
        <p:nvSpPr>
          <p:cNvPr id="122" name="PlaceHolder 2"/>
          <p:cNvSpPr>
            <a:spLocks noGrp="1"/>
          </p:cNvSpPr>
          <p:nvPr>
            <p:ph/>
          </p:nvPr>
        </p:nvSpPr>
        <p:spPr>
          <a:xfrm>
            <a:off x="457200" y="1268280"/>
            <a:ext cx="8229600" cy="4857840"/>
          </a:xfrm>
          <a:prstGeom prst="rect">
            <a:avLst/>
          </a:prstGeom>
          <a:noFill/>
          <a:ln w="0">
            <a:noFill/>
          </a:ln>
        </p:spPr>
        <p:txBody>
          <a:bodyPr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0000"/>
                </a:solidFill>
                <a:latin typeface="Arial"/>
              </a:rPr>
              <a:t>Γενικοί κανόνες</a:t>
            </a:r>
            <a:r>
              <a:rPr b="0" lang="en-US" sz="2400" spc="-1" strike="noStrike">
                <a:solidFill>
                  <a:srgbClr val="ff0000"/>
                </a:solidFill>
                <a:latin typeface="Arial"/>
              </a:rPr>
              <a:t>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εβασμός και ευγενική συμπεριφορά προς όλους.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γρήγορση και προετοιμασία για αποτελεσματική διδασκαλία (αφορά τον εκπαιδευτικό).</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ε μιλάμε ο ένας πάνω στον άλλο (ενίσχυση της ικανότητας παρακολούθησης του ομιλητή και ανάληψη του λόγου μετά το τέλος της ομιλίας).</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πακοή όλων των κανόνων που έχει το σχολείο και η τάξη.</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μπεριφορά μαθητών στο προαύλιο.</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9:02:25Z</dcterms:created>
  <dc:creator>1</dc:creator>
  <dc:description/>
  <dc:language>en-US</dc:language>
  <cp:lastModifiedBy>Angeliki Lazaridou</cp:lastModifiedBy>
  <dcterms:modified xsi:type="dcterms:W3CDTF">2023-06-04T10:28:30Z</dcterms:modified>
  <cp:revision>32</cp:revision>
  <dc:subject/>
  <dc:title>Διαχείριση της σχολικής τάξης</dc:title>
</cp:coreProperties>
</file>